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9EF-564A-4323-9E6C-E2E20970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4A5-9ED6-49DD-B24F-1683896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98EB7-C2B7-4216-9714-C16E41C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3817D-8C43-424A-81E7-ADF8FFB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974E-E5F8-4EA6-B5BE-39984EF6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51B5B-9501-469D-AA0C-16CD793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C1A0-9574-4379-9208-3C55618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62A1A-6B91-410A-8345-413E1B7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BDEC-5112-48B1-91D5-CAEEB0EC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B794-2359-404E-86FF-602170A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5E7B2-1508-447D-B7BC-8F059CBB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54B00-7525-4070-AFE3-DC4C376D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94-0A11-44C2-B57B-FC54E779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DA060-EB22-4E5C-8EA5-651B9C5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8F540-B2BE-4746-A7A6-2C6D462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E5879-EF1D-4191-BB1F-6C36DCC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ECE9A-89BC-423D-A099-57132A97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B1A6C-7374-47FA-813B-43AD3C5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A87DF-50F4-4833-A919-D78B706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4FB6F-3871-44FB-8F81-C4B9A17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B3A8B-7449-494E-AD4E-EF00CC5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40BAE-DEC1-4F31-ACB0-806567C4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43678-9A00-487C-8C64-9B5A20E7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C8E-734F-4F1B-BDE9-B1AB894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0A4E6-16D8-4DE0-9FF5-6AD1FE3F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E3D9-7116-45CB-8314-4EFD7DB4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7024D-41A1-4413-B5C5-CA374F50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B6D72-A0E7-4B60-BE25-5C5D70D4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9441F-C697-4126-9CFD-1D14E4F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8192B-7F88-4BCC-AD4D-2101315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2CC5D-45E2-4213-8BBF-E7447C7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30AAB-56AF-422C-8383-0485815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227D-2324-46BA-BD94-DE59052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8FD47-8225-4028-A68E-DD26ED3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0A3-6E31-41F3-9DA7-21457EDE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B8BFE-D1AE-43BF-9E3D-4D52591D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4B37-6204-440A-83DB-E9020E4F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49B0E-B1AE-426E-9D4D-240BA2FC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17449-C13A-496F-8B90-F984CF15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D5D79-A5A2-4D19-9570-5DF288C2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15AA0-BB67-4F9D-BED6-3EFA7FF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77AAC-CFC4-4833-8B01-865C4CD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CF39-3542-419E-8AFC-EBA3F13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84263-CA4F-497B-B01C-F7394FB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5C58-994F-4CA2-A761-B7F27FA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CD7-0C07-48CA-971D-8E536342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9EF52-6CFC-4765-8EF6-A821C13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D6124-A4B4-4A47-BEF3-585EE36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94451-13EE-462B-A034-A6A7EDBB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C6AA5-B02C-4641-ABA2-39E5CABA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B851B-5804-4036-A6F1-563FDE14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7C65-CF8E-4482-9E6F-90EA4E64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83E-A05B-4879-8BA4-0B1B87B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083-9358-4C30-8E20-0F16BD0F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A10F-7E41-4ADB-98CC-EF52DB7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085B-8411-4759-BEBE-65F2BD3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DD6-D31F-4745-9148-7C93A58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2C05-37AC-40A4-B2A4-A871E43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4575-D871-4F88-BCCC-BA509A4F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A37D-12CB-4E2F-8613-D46C1761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1B8E-91F3-4620-88C2-EFB6CB0B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A150-B459-4910-B987-519212CE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3994-0E5D-44DD-AE4A-334777E4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592F-45A4-4B81-A2EF-5374055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98FA-365C-4F6A-8F77-A0E7FF8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A111-D1C5-41E5-B127-CCCBB9A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242A-E255-49DD-964C-5211EF0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B13-CCA9-4D6B-879D-6C05016F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4F1B-0430-4195-9403-67BC21C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6455-4FA6-4C99-815A-7D73B8E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E5B9-CD3D-44DB-A45A-88E4544E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18F9-16B5-414D-B086-D2DB551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7FE9-3A60-4A3F-B9B7-9DA31FB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B973-8AA0-437F-ADF3-37139B65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F15B-902C-47A3-9DD1-35CF8982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6985-8098-48E7-A226-C6FB8546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19B3-9F23-4EDA-ABB5-058B337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5C34-F7D8-4170-A150-DD522BD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37F-2840-450B-820A-80F79FCC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7B1C-C11E-4B12-9AB8-368CD8A3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146E-3A15-4560-85AD-63309FD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1020-0974-4EB0-8FB0-9D8F999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A887-A741-40EB-9CC3-30DE850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9B72-E7E8-4455-A03E-4DBCA34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8560-99AF-468C-A44F-4C54B9F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DEA3-A21C-4C24-A316-6AD322D9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CEF3-4CDC-455C-8F78-549E267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8763-5F26-4B72-B4C0-5DE7FD0F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2177-1DDD-4FE4-B4C5-5534E86E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FCB-2C1E-4371-AB7D-24ADD34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74C4-0A45-4A13-93DE-7D5B451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B6144-9B6D-4250-B8E4-99C60DE5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0388-0B9C-4579-997D-80B83D19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AEC0-67B9-4BCC-8572-D674AD7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8E7B-9152-4F95-8DB9-C687FFF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893E-0E33-4CF5-9776-D18595E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D95D-73CC-4913-AF68-BFCB156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1DA0-8689-4F5E-823F-C3BC756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FE80-5DFD-4242-9BB9-BB9AE53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50C1-20FA-43AE-B096-305647F6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96E-CF88-44D9-95BF-A98BAD3A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7AB8-3E4E-442D-97E8-CA708920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A118-30DB-4B1C-A995-59C234BA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25FB-1A92-48FA-82DA-8470E79D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14E18-FC1F-47F3-B9BE-FC697338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B977-9498-490F-BF90-8D0D356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C9AFE-27D2-4E24-8476-17A71F7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33C8-B2FC-424A-BF96-0484779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6E75-271B-438C-9FBD-726EF85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B20B2-7279-4122-88ED-398E911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BE5F-7C10-4CEA-9959-CF1B3AE3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91B-E1C8-43D5-B42D-922827C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FF4B-E9F9-462C-97EB-ADFAE74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0F22-4516-4542-AD57-E8FFD9C4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04E7-8C86-445B-86E3-BC65AC7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527FE-58E8-4AE9-9EEE-249F69A2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B341-B8FF-468B-A747-C0D836A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6AACC-DB51-496F-8B39-1EC048D6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9DBF-A1C7-4FD1-8237-75181A5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9F95-2732-4410-9059-011C09A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AFCD-269C-4338-AE36-F404F82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9C0E-FDE5-4FCF-AFFD-1B7F5A6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ECD-C056-41C0-90C9-7E70651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CD5D-EBC2-41BE-9A1D-3483CF6B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D545F-F65B-4B57-A0AB-DEFF840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6FA32-23B6-4BE4-AC93-E440DB3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1BD9-01FC-422F-A261-262C16BD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755D-F81F-4779-AC54-C0D4E2BC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9BD3-FE73-4CE3-BB46-7CF5DFD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E946-2FF0-49C7-82F8-23297BC0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D8D70-E07B-4AE7-A341-5B9FF44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B553-92B1-4F02-85E1-9B5AE9B2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52DD-7694-424D-A51A-823F4EB9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C17-1090-4A90-A95C-EC8BBBE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A271-AC3F-4D5B-8FE8-DBFA8ABD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87FBE-25EA-4913-832A-99935E7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2952-BAD7-42B2-B8F0-74109D8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09BB-F88C-4EF3-B282-11D03F51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D8300-819B-4A3F-AA2D-DCA2F8C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3EFE-A00F-4D29-8FE1-73F1ACAD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60F4-408C-4BD8-BCDE-2BAF170B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5A3C6-6B39-4905-A2FE-5F119CF0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A3C3A-0316-45D8-B0E2-FD8697F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DB14-B151-47BB-A5C2-590312B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3A0-0333-4455-B3DD-6D1B7B4C67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329-37BD-4865-93A7-09AC508DE8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976C-DB43-4323-9515-A0013B2EDA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A1B-F84C-4DF1-8AB8-172688303B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396D-27E0-49CC-8954-907F8F3B43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D0E4-0112-431B-BABB-AAF44F685A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4656-26EA-4A3A-B68C-5A79AFED9D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15D-5C85-4524-A4AD-733D6B0225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0D5-6626-4762-821C-239AC3CEC0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014-1B59-4EBD-8CB9-F6DF53053F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C7E-F2B0-4EBA-8B18-D6D05535B8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ADDB-27B2-4604-8432-1062BA18F9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8 Síl slabej vi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íl slabej viere, Pane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íž každodenne znáš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nahe našej pomáh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verne kráč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ďačnú službu rozn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rivý lásky príkla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tvojej svätej ob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dáva spásy výhľ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 údmi, Hlavou ty s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je naša spása.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Len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ile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torú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ceš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a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ám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2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ťazne žiť tu dá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, všetkej moci zd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j lásky prameň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ráň v svete každý klenot svoj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račná zloby zaž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6:01:48Z</dcterms:modified>
  <cp:revision>21</cp:revision>
  <dc:subject/>
  <dc:title>Je veľký náš Pán, on slávy je Kráľ Nech do všetkých strán  spev vrúcnych znie chvál.</dc:title>
</cp:coreProperties>
</file>